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9CCBA-9AF9-4E96-8600-A59DC35FA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B7CFF-2BF5-44ED-9672-01DA3EE19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21A4F-DD9A-4065-B564-919EE97F3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FEE68-4D74-4108-A109-8065BD33B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DD5EE-81CD-42F0-BA26-58A290EBC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41148-2A9C-48CF-9089-EBB514983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9A2DB-7314-4CF5-9877-8B8B80B11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46963-DDDF-425D-AA52-E87EDF8D1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8187D-E8BD-46AA-8487-1EDEF5715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583D9-83C2-4F5B-98AE-CC68B77EE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4B3A7-0C11-4D38-B6E2-8644683F3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A6EC4-C051-43D9-A1C1-A075467AB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67575-731F-4DC1-A708-25929CA2CF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7"/>
          <p:cNvSpPr/>
          <p:nvPr/>
        </p:nvSpPr>
        <p:spPr>
          <a:xfrm>
            <a:off x="0" y="34920"/>
            <a:ext cx="9102600" cy="240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: ______________________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0" y="838080"/>
          <a:ext cx="9117000" cy="5796000"/>
        </p:xfrm>
        <a:graphic>
          <a:graphicData uri="http://schemas.openxmlformats.org/drawingml/2006/table">
            <a:tbl>
              <a:tblPr/>
              <a:tblGrid>
                <a:gridCol w="1219320"/>
                <a:gridCol w="1523880"/>
                <a:gridCol w="1693800"/>
                <a:gridCol w="1855800"/>
                <a:gridCol w="1595520"/>
                <a:gridCol w="1228680"/>
              </a:tblGrid>
              <a:tr h="177840"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8440"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opic comple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tudents did not adequately cover any the topics:  background, family life, life as writer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tudents did not adequately cover 2 of the topics:  background, family life, life as writer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tudents did not adequately cover one of the topics:  background, family life, life as writer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tudents adequately covered the topics presente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320"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ammar accurac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ny errors make meaning completely unclear. 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requent significantly hinder meaning in some instances. 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nerally understandable, with errors that may impede comprehensibility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stly correct mistakes do not impede comprehensibilit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hows control of grammar with only minor mistakes;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8080"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ocabular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usag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tudents used less than 3 vocabulary term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tudents used 3 or 4 vocabulary term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tudents used only 5 or 6 vocabulary term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tudents used all 7 vocabulary term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rganization and flow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Writers demonstrate average to below average writing techniques – no opening paragraph or choppy flow. 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Writers demonstrate good writing techniques with a good opening paragraph, which flows into subsequent paragraphs . 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0320"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rehensibilit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 main idea is unclear due to irrelevant details. 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riter clearly conveys the main idea, providing details and fulfilling all of the requirements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5360"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vel of Expression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udent’s level of expression is consistent with a mid - novice level speaker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udent’s level of expression is consistent with a high novice level speaker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udent takes risks to manipulate the language and elaborate at an intermediate low level of proficienc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8080"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ocabular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usag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adequate and inaccurate use of vocabular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me inaccurate use of vocabulary and/or too basic for the level.   No or little vocabulary from our list was used. 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vel appropriate use of vocabulary with little or no variety. Some vocabulary from our list was used. 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vel appropriate and varied use of vocabulary .  Vocabulary from our was used consistently and correctly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" name="TextBox 1"/>
          <p:cNvSpPr/>
          <p:nvPr/>
        </p:nvSpPr>
        <p:spPr>
          <a:xfrm>
            <a:off x="7010280" y="15228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_______/2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16T20:35:31Z</dcterms:created>
  <dc:creator>Alissa Hart</dc:creator>
  <dc:description/>
  <dc:language>en-US</dc:language>
  <cp:lastModifiedBy>Alissa Hart</cp:lastModifiedBy>
  <dcterms:modified xsi:type="dcterms:W3CDTF">2015-02-20T17:10:50Z</dcterms:modified>
  <cp:revision>4</cp:revision>
  <dc:subject/>
  <dc:title>PowerPoint Presentation</dc:title>
</cp:coreProperties>
</file>